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gif" ContentType="image/gif"/>
  <Override PartName="/ppt/media/image6.wmf" ContentType="image/x-wmf"/>
  <Override PartName="/ppt/media/image4.jpeg" ContentType="image/jpeg"/>
  <Override PartName="/ppt/media/image5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282-EFBE-4CE6-A832-9AECA6BB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44A-7F8D-41C6-8B3F-284AFE97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001-12D3-46D4-B644-2593732E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739-D850-4433-87EA-29254C56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315-8544-41AF-8982-DB933EA2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743-941F-429E-8130-3D66844F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632-C174-41AB-AB72-BE8DCD81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470-77A9-4624-814F-FDB1B9ED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00E-0747-452A-829F-892C5A83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24B-2973-4D9C-B48B-5CBDC890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068-6A2B-499F-86ED-FA999C14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AF3-4480-4BD4-B60E-F55F7EDA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738-25D7-43B3-AB12-8066BC593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7524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The Great Flood of 19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4672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7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74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120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905120"/>
            <a:ext cx="7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36576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6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200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30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74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82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01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62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406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8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514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41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220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29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190512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3520" y="187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43760" y="1873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13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28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8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72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120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40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190512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560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2314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905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4840" y="19051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9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1905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406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190512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2651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057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620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42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190512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2920" y="19051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73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2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71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1360" y="19051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9800" y="19051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05320" y="3657600"/>
            <a:ext cx="2057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71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50840" y="2025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56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400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44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92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85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732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540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9440" y="19051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560" y="19051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2209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2T18:51:52Z</dcterms:modified>
  <cp:revision>19</cp:revision>
  <dc:subject/>
  <dc:title>Rivet</dc:title>
</cp:coreProperties>
</file>